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113-661E-4084-93CD-FD1040F9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40D-7897-4FF2-AE54-C6330023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0A6-4427-474B-B58A-D4E2FFC1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1AE-7FC1-4959-84AE-C477D638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5E7-4FAC-4344-9C96-6B6056EC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D6A-C96A-408A-8D71-76DBF654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0AC-EE12-4927-A794-4FA8099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FC6-3A5A-40EF-BDB0-A65DDD2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4D8-0863-4D2C-9D00-1FB74081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B53-866C-4D3B-A1C3-5709407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978-1F7A-400A-92CC-5FEFA4B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0D4-15C7-42DC-AB75-43DAFA5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5E51-2FA0-4B68-8C68-04B5D2750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or Bur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ing Role of the School Psych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YASP full logo"/>
          <p:cNvPicPr/>
          <p:nvPr/>
        </p:nvPicPr>
        <p:blipFill>
          <a:blip r:embed="rId1"/>
          <a:stretch/>
        </p:blipFill>
        <p:spPr>
          <a:xfrm>
            <a:off x="1752480" y="380880"/>
            <a:ext cx="5359680" cy="1968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828800" y="49528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eter Faustino, NYASP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practic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provide consistency and define our own role in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at the local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8958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sure B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support from allied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whelming need to increase access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chool psyc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ASP at work for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…discussion at Board of Regents on limiting the use of IEP Dipl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ek…2011 state conference in Syrac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our Quarterly Board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ese Phras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os Yields H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your role with professional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your niche, be seen as valuable and then advocate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 professional association to accomplish thes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onsider the most pressing topics in the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hanging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ntent Placeholder 3076"/>
          <p:cNvGrpSpPr/>
          <p:nvPr/>
        </p:nvGrpSpPr>
        <p:grpSpPr>
          <a:xfrm>
            <a:off x="2703960" y="2185560"/>
            <a:ext cx="3889800" cy="3011040"/>
            <a:chOff x="2703960" y="2185560"/>
            <a:chExt cx="3889800" cy="301104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689280" y="3557160"/>
              <a:ext cx="481680" cy="12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2703960" y="3025080"/>
              <a:ext cx="1009440" cy="810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D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4055400" y="4132440"/>
              <a:ext cx="29844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3254040" y="4385880"/>
              <a:ext cx="1009440" cy="810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chool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im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943880" y="4132440"/>
              <a:ext cx="29772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5034600" y="4385880"/>
              <a:ext cx="1009080" cy="810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 flipV="1">
              <a:off x="5125320" y="3555000"/>
              <a:ext cx="483120" cy="12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584680" y="3026520"/>
              <a:ext cx="1009080" cy="811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-referr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4647960" y="2994480"/>
              <a:ext cx="0" cy="40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4144680" y="2185560"/>
              <a:ext cx="1009080" cy="810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st &amp; Pla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4144680" y="3402720"/>
              <a:ext cx="1009080" cy="810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The School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Psychologi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Diagram 20"/>
          <p:cNvGrpSpPr/>
          <p:nvPr/>
        </p:nvGrpSpPr>
        <p:grpSpPr>
          <a:xfrm>
            <a:off x="1060200" y="906120"/>
            <a:ext cx="7027920" cy="4775400"/>
            <a:chOff x="1060200" y="906120"/>
            <a:chExt cx="7027920" cy="4775400"/>
          </a:xfrm>
        </p:grpSpPr>
        <p:sp>
          <p:nvSpPr>
            <p:cNvPr id="61" name="_s1041"/>
            <p:cNvSpPr/>
            <p:nvPr/>
          </p:nvSpPr>
          <p:spPr>
            <a:xfrm>
              <a:off x="2062080" y="1369440"/>
              <a:ext cx="5021640" cy="2611800"/>
            </a:xfrm>
            <a:custGeom>
              <a:avLst/>
              <a:gdLst>
                <a:gd name="textAreaLeft" fmla="*/ 0 w 5021640"/>
                <a:gd name="textAreaRight" fmla="*/ 5022000 w 5021640"/>
                <a:gd name="textAreaTop" fmla="*/ 0 h 2611800"/>
                <a:gd name="textAreaBottom" fmla="*/ 2612160 h 261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2"/>
            <p:cNvSpPr/>
            <p:nvPr/>
          </p:nvSpPr>
          <p:spPr>
            <a:xfrm rot="7200000">
              <a:off x="3954600" y="781200"/>
              <a:ext cx="2611440" cy="502236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5022360"/>
                <a:gd name="textAreaBottom" fmla="*/ 5022720 h 50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3"/>
            <p:cNvSpPr/>
            <p:nvPr/>
          </p:nvSpPr>
          <p:spPr>
            <a:xfrm rot="14400000">
              <a:off x="2581200" y="784080"/>
              <a:ext cx="2611800" cy="5021640"/>
            </a:xfrm>
            <a:custGeom>
              <a:avLst/>
              <a:gdLst>
                <a:gd name="textAreaLeft" fmla="*/ 0 w 2611800"/>
                <a:gd name="textAreaRight" fmla="*/ 2612160 w 2611800"/>
                <a:gd name="textAreaTop" fmla="*/ 0 h 5021640"/>
                <a:gd name="textAreaBottom" fmla="*/ 5022000 h 502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5947920" y="184824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5"/>
            <p:cNvSpPr/>
            <p:nvPr/>
          </p:nvSpPr>
          <p:spPr>
            <a:xfrm>
              <a:off x="3565080" y="399420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6"/>
            <p:cNvSpPr/>
            <p:nvPr/>
          </p:nvSpPr>
          <p:spPr>
            <a:xfrm>
              <a:off x="1181880" y="184824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date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by the Bd. Of Regents to relieve burden on schools from man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preced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ouring of support for School Psycholog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ws is good ne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to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er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s, Assessments, &amp; Progress Moni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BA, BIP and use of Time Out Ro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L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RtI in determination of 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portunity for an altern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gon alternative to LD and their collaboration with N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ng the Whole Child, Engaging the Whole School: Guidelines and Resources for Social and Emotional Development and Learning (SEDL) in New York State” on July 18, 20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 in the making through NYASP’s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 of the value of SEDL and its impact on student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ignity”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chool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to advance the expertise of School Psycholog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pply to PPS (aka School Psychologis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trend in teacher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plan for N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9:40:24Z</dcterms:created>
  <dc:creator>tscadmin</dc:creator>
  <dc:description/>
  <dc:language>en-US</dc:language>
  <cp:lastModifiedBy>Allen, Lynn</cp:lastModifiedBy>
  <dcterms:modified xsi:type="dcterms:W3CDTF">2011-10-20T21:56:20Z</dcterms:modified>
  <cp:revision>8</cp:revision>
  <dc:subject/>
  <dc:title>Expanding or Bursting?</dc:title>
</cp:coreProperties>
</file>